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explode.wav" ContentType="audio/x-wav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FD91-AF8C-4487-9E53-79DEE60FAA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57D9-8C9B-4475-B0D8-5C35330495F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내셔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국가들 사이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넷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네트워크들 사이의 연결 상태를 의미할 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D433-50AC-44E8-A4C7-629142D1E0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터넷 상의 데이터 통신 절차와 약속 체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1D7F-4BFD-46F9-9C3B-DB3807DCF8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CA26-C7C5-427A-BAA0-C9F623FF06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책임해 보이지만 통제센터를 두지 않는 상황에서 매우 현명한 방식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884E-5497-4DB8-924F-E2FF1E74E8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혼잡한 길보다는 비어있는 회선에 더 많은 양의 패킷을 발송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73DF-485E-4955-BEA5-029086A8D8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D7F8-EEEE-4EB4-9AA7-B27357D96C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럽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ERN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논문을 디지털화하여 간편하게 이용하기 위한 아이디어에서 시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학술 논문에는 그 논문과 관련된 다양한 참고 문헌이 기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우리는 그 참고문헌이 또 어디있는지 조사하는 데 시간 많이 들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를 일일이 조사하지 않더라도 참고문헌을 바로 클릭하면 그 논문이 나타날 수 있도록 하는 아이디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것이 인터넷 상에서 구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브라우저를 통해 그림과 음악 등 여러 멀티미디어가 포함된 다양한 서식의 문서를 볼 수 있게 되면서 인터넷이 일반 사용자 사이에 폭발적으로 보급되기 시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BC0F-E5B6-49D6-9534-4C9D148641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2CD9-B2A3-448F-A7CA-ECF37F1446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전만 해도 정보화 사회라고 하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딘가에 거대한 컴퓨터가 있고 그 속에 모든 정보가 저장되어 있어서 사회의 구성원은 누구나 단말기를 통해 그 컴퓨터를 사용할 것이라는 상상을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소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집중처리 시스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에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계의 모든 사람의 요구를 충족시키기 위해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몇 대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가 필요할 것인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같은 논의가 진지하게 이루어지기도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성능은 떨어지지만 싸고 작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나타나면서 사람들은 거대 컴퓨터 대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사용하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분산처리 시스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서는 안전성이 증가하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체적인 경비도 줄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9AF9-6A90-4350-9DA4-7036AB1C80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C81D-7613-4264-8B50-1FE6AA3055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버에 수많은 정보 저장 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클라이언트의 요구로 정보를 주고 받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클라이언트 컴퓨터는 일상적인 업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처리용으로 사용하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보 관리나 인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은 데이터베이스 관리처럼 손이 많이 가는 작업은 고성능의 서버 컴퓨터에게 맡김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네트워크와 대형컴퓨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단말기 네트워크의 공통점과 차이점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C06A-F70E-450A-845A-A279CC4517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역시 클라이언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버 방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전화선을 이용해 호스트 기지에 있는 서버에 접속하여 전자게시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BBS Bulletin Board System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활성화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문기사 제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메일 서버도 제공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론 서로 다른 회사의 이메일 사이에 메일이 전달되려면 다른 네트워크와의 연결을 필요로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통신 이상을 의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메일의 원리는 이따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쨌든 이메일을 제외한다면 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통신 서비스는 회원들끼리의 폐쇄적인 네트워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787E-873A-4A26-A35E-565B33C123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디지털에서 아날로그로 변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MOdulation) &amp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날로그에서 디지털로 복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EModuation)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~’, 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~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변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제로는 더 복잡한 구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통신속도 단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p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its per seco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요즘 유무선 공유기에서도 사용되는 단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0723-A80E-4267-BD5D-DF974AB559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여러 목적을 위한 네트워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보를 어떻게 관리할 것인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7F43-77BB-429E-ADFB-1FB6D999CE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3C5B-2C43-49AA-8FA0-46843E7684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BAC-B234-43C4-BC9D-7994ADB2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718-4249-46F1-AABD-1D09C2B6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8C9-02B8-45C5-AEED-2C5EC412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318-E820-402E-AB8E-7FD6324C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A09-98AF-4241-87C1-40E8FB93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745-9D74-4696-AD19-44421D31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006-E04B-4242-B3FD-4B417678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A9F-92AA-4050-AF98-DEBE5470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807-BD64-4689-B6CE-59FA2CB5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7CF-F5B9-48FA-9537-A52E446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93F-F450-47CC-BE59-02F4CD90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42C-C140-4ADD-994B-E2E493B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7D2E-B053-4523-A3DE-C4E15B17E9A1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vimeo.com/2696386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3318" t="30111" r="33931" b="4907"/>
          <a:stretch/>
        </p:blipFill>
        <p:spPr>
          <a:xfrm>
            <a:off x="0" y="0"/>
            <a:ext cx="118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068640"/>
            <a:ext cx="4176720" cy="2881440"/>
          </a:xfrm>
          <a:prstGeom prst="rect">
            <a:avLst/>
          </a:prstGeom>
          <a:solidFill>
            <a:srgbClr val="fcd5b5">
              <a:alpha val="7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300" spc="-1" strike="noStrike">
                <a:solidFill>
                  <a:srgbClr val="c00000"/>
                </a:solidFill>
                <a:latin typeface="맑은 고딕"/>
              </a:rPr>
              <a:t>내가 보낸 이메일은 </a:t>
            </a:r>
            <a:br>
              <a:rPr sz="3300"/>
            </a:br>
            <a:r>
              <a:rPr b="1" lang="ko-KR" sz="3300" spc="-1" strike="noStrike">
                <a:solidFill>
                  <a:srgbClr val="c00000"/>
                </a:solidFill>
                <a:latin typeface="맑은 고딕"/>
              </a:rPr>
              <a:t>어떻게 배달이 될까</a:t>
            </a:r>
            <a:r>
              <a:rPr b="1" lang="en-US" sz="3300" spc="-1" strike="noStrike">
                <a:solidFill>
                  <a:srgbClr val="c00000"/>
                </a:solidFill>
                <a:latin typeface="맑은 고딕"/>
              </a:rPr>
              <a:t>?</a:t>
            </a:r>
            <a:br>
              <a:rPr sz="3300"/>
            </a:br>
            <a:r>
              <a:rPr b="0" lang="ko-KR" sz="3300" spc="-1" strike="noStrike">
                <a:solidFill>
                  <a:srgbClr val="c00000"/>
                </a:solidFill>
                <a:latin typeface="맑은 고딕"/>
              </a:rPr>
              <a:t>인터넷의 역사</a:t>
            </a:r>
            <a:br>
              <a:rPr sz="33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2011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월 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일 정동욱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인터넷이란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97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inter-net 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네트워크의 네크워크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통제센터가 없는 네트워크의 연결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18082" t="31437" r="42790" b="4907"/>
          <a:stretch/>
        </p:blipFill>
        <p:spPr>
          <a:xfrm>
            <a:off x="826920" y="260280"/>
            <a:ext cx="72853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통제센터 없이 통신이 가능한가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터넷 기술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: TCP/IP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맑은 고딕"/>
              </a:rPr>
              <a:t>Transmission Control Protocol/Internet Protoc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가장 간단한 규약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정보를 완전히 받았으면 검증 코드 보내주기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2580" t="43372" r="33193" b="15516"/>
          <a:stretch/>
        </p:blipFill>
        <p:spPr>
          <a:xfrm>
            <a:off x="826920" y="3645000"/>
            <a:ext cx="6870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통제센터가 없는 인터넷상에서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나의 이메일은 어떻게 배달될까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2997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주소에 도착할 때까지 무작위로 전달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.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전달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성공하고 나면 거쳐온 노드들이 이를 기억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수많은 사람의 수많은 데이터를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어떻게 막힘 없이 전달할까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잘게 나누어 여러 길로 배달한 후 조각 모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여러 사용자의 배달 명령을 공평하게 분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패킷 전송 방식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일본 도쿄 대학과 미국 캘리포니아 대학을 연결하는 회선의 비용은 누가 부담해야 할까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애매한 문제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터넷은 공공도로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월드와이드웹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(WWW)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팀 버너스 리의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하이퍼텍스트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’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(1989)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마크 앤드리슨의 모자이크 브라우저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(1993)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후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www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일반 사용자에게 폭발적으로 보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000" spc="-1" strike="noStrike">
              <a:solidFill>
                <a:srgbClr val="c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http://vimeo.com/2696386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765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컴퓨터의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50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년 역사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집중에서 분산으로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8486" t="32756" r="38360" b="4907"/>
          <a:stretch/>
        </p:blipFill>
        <p:spPr>
          <a:xfrm>
            <a:off x="1042920" y="3473280"/>
            <a:ext cx="3683160" cy="240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rcRect l="5703" t="34083" r="37452" b="6233"/>
          <a:stretch/>
        </p:blipFill>
        <p:spPr>
          <a:xfrm>
            <a:off x="4859280" y="3357720"/>
            <a:ext cx="41893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네트워크는 왜 만들어졌는가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한 대의 컴퓨터를 여러 사용자가 함께 사용하기 위해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Time Sharing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여러 대의 컴퓨터에 있는 정보를 서로 공유하고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일을 분담하기 위해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peer-to-peer / client-server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-27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클라이언트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서버 네트워크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1484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000" spc="-1" strike="noStrike">
              <a:solidFill>
                <a:srgbClr val="c00000"/>
              </a:solidFill>
              <a:latin typeface="맑은 고딕"/>
            </a:endParaRPr>
          </a:p>
        </p:txBody>
      </p:sp>
      <p:pic>
        <p:nvPicPr>
          <p:cNvPr id="60" name="Picture 2" descr="http://ga.webjunction.org/img/img11016.jpg"/>
          <p:cNvPicPr/>
          <p:nvPr/>
        </p:nvPicPr>
        <p:blipFill>
          <a:blip r:embed="rId1"/>
          <a:stretch/>
        </p:blipFill>
        <p:spPr>
          <a:xfrm>
            <a:off x="755640" y="1557360"/>
            <a:ext cx="63514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http://postfiles16.naver.net/20100724_31/rpgtown_1279973896067IMYw7_jpg/%ED%95%98%EC%9D%B4%ED%85%94_rpgtown.jpg?type=w3"/>
          <p:cNvPicPr/>
          <p:nvPr/>
        </p:nvPicPr>
        <p:blipFill>
          <a:blip r:embed="rId1"/>
          <a:stretch/>
        </p:blipFill>
        <p:spPr>
          <a:xfrm>
            <a:off x="826920" y="2060640"/>
            <a:ext cx="6750360" cy="388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image.ohmynews.com/down/images/1/patrick21_222680_1%5b304739%5d.jpg"/>
          <p:cNvPicPr/>
          <p:nvPr/>
        </p:nvPicPr>
        <p:blipFill>
          <a:blip r:embed="rId2"/>
          <a:stretch/>
        </p:blipFill>
        <p:spPr>
          <a:xfrm>
            <a:off x="826920" y="2060640"/>
            <a:ext cx="6769440" cy="4363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333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닫힌 네트워크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’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C 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통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000" spc="-1" strike="noStrike">
              <a:solidFill>
                <a:srgbClr val="c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전화로 데이터 통신을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299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MODEM: MOdulation + DEModulation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7" name="Picture 2" descr="http://static.commentcamarche.net/en.kioskea.net/pictures/pc-images-modem.png"/>
          <p:cNvPicPr/>
          <p:nvPr/>
        </p:nvPicPr>
        <p:blipFill>
          <a:blip r:embed="rId1"/>
          <a:stretch/>
        </p:blipFill>
        <p:spPr>
          <a:xfrm>
            <a:off x="539640" y="3500280"/>
            <a:ext cx="56167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17344" t="34083" r="47219" b="6233"/>
          <a:stretch/>
        </p:blipFill>
        <p:spPr>
          <a:xfrm>
            <a:off x="2124000" y="3141720"/>
            <a:ext cx="3456000" cy="32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17517" t="34083" r="48525" b="6233"/>
          <a:stretch/>
        </p:blipFill>
        <p:spPr>
          <a:xfrm>
            <a:off x="2195640" y="314172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9079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핵의 공포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가 인터넷을 낳다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34936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핵의 위협 속에서 안전한 네트워크는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7009" t="34083" r="39099" b="8885"/>
          <a:stretch/>
        </p:blipFill>
        <p:spPr>
          <a:xfrm>
            <a:off x="755640" y="907920"/>
            <a:ext cx="6797520" cy="433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rcRect l="7921" t="34083" r="38929" b="8885"/>
          <a:stretch/>
        </p:blipFill>
        <p:spPr>
          <a:xfrm>
            <a:off x="849240" y="907920"/>
            <a:ext cx="6703920" cy="433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rcRect l="7179" t="35415" r="37452" b="6233"/>
          <a:stretch/>
        </p:blipFill>
        <p:spPr>
          <a:xfrm>
            <a:off x="755640" y="1009800"/>
            <a:ext cx="6985080" cy="4435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1562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544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한 곳이 파괴되더라도 유지되는 네트워크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ARPANET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군대와 대학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연구기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정부 연결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USER</cp:lastModifiedBy>
  <dcterms:modified xsi:type="dcterms:W3CDTF">2011-11-08T23:56:24Z</dcterms:modified>
  <cp:revision>11</cp:revision>
  <dc:subject/>
  <dc:title>컴퓨터는 어떻게  덧셈, 뺄셈을 할까?</dc:title>
</cp:coreProperties>
</file>